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1365-5A23-47B0-9495-2F3A82E22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84C3-500A-4240-8C41-9271BAD75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29F-8329-41B4-9E1F-7E5D0556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900-0FC6-4FEF-98AC-D0925AC6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593-2053-42E9-8055-BFE91A54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75E-1293-4260-90A6-B96C3D35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E13-FC56-48F7-94ED-AC34E05A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8A6-CD5B-48AE-971F-BA9134A4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7652-5C47-4D54-B05C-45D4CE5F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5F8-9FD0-4A2A-B87F-180A606C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350-9C91-4A26-931C-F55DCF63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2CF-5B70-49F0-BCA2-5B3DC4B6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A67-630C-43D3-A00B-B7FEA59B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A2E-A015-434F-9395-4A42610A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7544-AE47-4C0B-BA75-284687F83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briela Mo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abriela Mont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Gabriela Montes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Gabriela Mont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Gabriela Mont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Gabriela Yo vivo en Nueva York. Tengo catorce años. Tengo dos herman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0472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Gabr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i gracias mucho y tu puedes compra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27672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Lesley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haces amiga? Quieres comer con mi?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133720" y="4492800"/>
            <a:ext cx="457200" cy="639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Gabri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amigas buenos dias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Ros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109960" y="51753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5257800"/>
            <a:ext cx="43434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Gabri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36880" y="60166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Ro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 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40:53Z</dcterms:created>
  <dc:creator>FriscoISD</dc:creator>
  <dc:description/>
  <dc:language>en-US</dc:language>
  <cp:lastModifiedBy>NYCDOE</cp:lastModifiedBy>
  <dcterms:modified xsi:type="dcterms:W3CDTF">2013-01-02T14:57:41Z</dcterms:modified>
  <cp:revision>108</cp:revision>
  <dc:subject/>
  <dc:title>Profile</dc:title>
</cp:coreProperties>
</file>